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BE3-2617-4544-885F-0AE69464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95A-0745-43D3-979D-C3E8AB25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7ED9F-3D61-4E0F-B5B5-437AD8F6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ADF57-47E1-4EE3-BC73-23336FAD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54DB3-1A83-4F0E-9705-A17483F7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FD71B-9AB1-4B34-8EC5-176EC811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A47B3-732D-4EFB-A2FD-F85CA866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31411-C3C0-411E-A082-74F52852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84D85-F8C3-4ECB-9A2C-EF5FFE37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E772F-F0B9-491A-ACD8-4D0D2CA3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5F8FF-2DA8-4A75-B4E4-EC36D470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7BA3B-1CF9-4368-BC21-1CAB01AC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E6E9-81DD-464E-8F48-2490FBF0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D8DBF-DBE9-491B-A401-033BEF5D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9B849-66CD-42D0-A2A5-6B1C9E23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D87EB-8F52-4329-9DAF-B07365AD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E8E66-30C8-4116-9DCD-CB066A7D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FB29A-C59B-4669-9261-8EB684B0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AFAB3-3B82-4B58-AEAB-24C28D34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4CBC4-627C-44A2-BC59-C78F6F6E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47285-CA29-48B2-BB0C-AC3AF189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70167-52C9-49C3-91A0-3FED55B7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4AC39-2E5C-4CE0-B61D-8765397D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D32-16E4-44F5-BC66-107929EF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941A2-F7E4-469A-98AB-32ED18F8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BE275-61C7-40FC-A08F-06138168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4C986-5122-43B6-9BDD-0C20C196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43B5D-A9F9-45C3-8720-071E2793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91D9C-CB44-4415-B9A2-5957BEA6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415E0-1F15-4625-9F78-7DC322B7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B1374-C256-4E76-B34A-2B3D276B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5DB9E-1D52-4B79-9216-1F79FF08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E5C19-B237-46DE-BA97-DE3C6ED1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7E24E-E450-4868-A03F-632B63FF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ED29-649E-4CD4-90F8-96173F7A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44677-D749-426B-958C-C85D8401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70BA2-7BA8-48F9-BFC4-9894CD9F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397A5-DDE4-48B7-9795-A97596BB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E69DD-86C7-44E2-8E25-3F354AEF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6388F-1C23-44D8-9073-2728AFF0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BD5B4-A900-41AC-BFEB-3B36BF45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81A2A-7440-443D-8CF2-4810F672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EFA64-BD47-457E-8C89-85AE81FA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AA99A-F613-494C-BE7E-F52C41D4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D4A15-0BD6-43F5-8FA0-E6DC83DD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84D1-8581-4F12-9B98-8BF56D76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3B597-6CDB-45E8-9439-6D1D2DEE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6F6AA-FB0E-482B-A170-C0A7802C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B6A67-E479-45A8-9B8E-465D4900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00393-86D9-407F-BF71-D329A60B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F2BC5-00FB-4088-9B9C-6E833478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09084-17EE-4CF0-8E7B-12A055B4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5C5C7-9C64-4B9D-BC07-12EAF4DF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F579E-2909-497A-B29A-A38DCD71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37321-F26E-46B1-82AD-7228C627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0E092-CB02-4446-AE51-DED82A37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FB71-0416-4BE4-90A4-8A259A37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EB914-BF3A-4B53-8E6A-2879F0BF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5F536-3A3B-4FAC-93F1-97F5AAB6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B9C8C-36B5-437F-B5C6-04A9C0BD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417DA-26AC-4C4B-B7BB-CA758C68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9019F-C1E8-4A58-BCE4-F6D0D749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D3C7A-2894-48AE-9F2D-4B19C95D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CB333-8D92-4858-8912-B4384C86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7A7B0-3C69-4C0E-BE44-D5B6CC66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CA2B8-7D54-408D-8CBE-02B11F51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2F7FB-3C5F-43CF-8AC3-2523CBAB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C98F-13C0-4963-8A76-4A4E7FF9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63C96A-6DCF-45F3-89EF-F3BFA758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EE536-FBD1-4BA6-8BFB-38656725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2746F-E8A8-48B5-B5C9-30925D56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EEECE-CA45-40A9-ACA6-6119A132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A70E1-4174-4231-926B-46C57B1E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58C5D3-0E81-45AF-B1A8-BEC1619A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726EE-57AA-4213-8368-806AB757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83FC9E-AE35-420A-B218-FCE68C99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2C018-9F99-4D35-8CAD-F20E618E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268E2-30C1-4D6C-8A45-A9C79CB1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9AE8-ADA3-4C89-817E-6A0A30A3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68068-598B-40FB-9B41-60A5E419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97CD0-8DAB-4A4B-88E6-256A9DD7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A412B-092D-419D-9EF4-F168C810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3314E-A508-450F-8AD2-9B90F3EC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15344-F9C2-41CD-BD4B-1C1E4E5D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EB416A-9039-4F34-84FD-A9EF2BBB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E34A23-A32D-421E-AE81-FEBA7EEA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A536E-6098-4FB2-9C43-8AEA3A3B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6486C5-1DD9-4125-8A65-CC253689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530CDE-E451-4B2D-A94E-F06F5877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1E88-5A28-4F19-8167-6E44D4DE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A04182-285F-490A-B576-00ABA5DF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AF2DBD-4764-4E6D-AD9C-E4FFD508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0E9F9-3DD1-4076-9B07-7FCE65B6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4904C-ECB6-4BEE-9012-7DDA9141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3747C-1A85-44DD-A817-7D0B4D1D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F4E2BC-418D-4142-A660-47EE5ECD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6F164-C39D-4690-997F-0CB3C61E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3084B1-918D-41C0-9777-C9140E0F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C03624-7C17-46C0-9760-A46A58B9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12305F-E4DF-4B43-8058-3EBBEB80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967B-7673-44BF-B904-C2C02E57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C6F8A-6FE8-4D25-B611-C3871D01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3F321-D285-4F3E-B11B-CF7D5C70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2DC6D-FAA7-4F5D-BF59-7C4A674D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EF0562-EDB0-416B-82E0-0FF0498D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E68C67-63E0-4DA3-A3C5-303FD406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EFA1B-B691-475A-A006-DC859773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182206-825F-4F9A-8A5C-2A0F8781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FA6D29-2E5B-4DE3-B169-0B366211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F05222-83FC-4E39-B7C9-FC2D64B4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76FEA0-AC8F-4036-92A5-8564379B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FA3-101D-4C53-9093-F12D6CD3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5A7F-89CA-40CA-B40F-7A7BA00A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23D001-B441-4F4B-8709-8BADF45F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F36ED1-0D03-47A2-8A0A-4BB9B3C8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E90EFC-B657-4A01-926A-8190514C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05CA7E-D8EB-4D9C-B91D-AB12A9D5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64C2E5-1325-436E-AB54-D9847E36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1F0EE6-37D3-4422-A2DE-7B4DC9C3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C58B66-55EB-45BD-A090-3DADF9D9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86DAE9-7A4A-4D46-BDC2-930B3F75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611722-C5A3-4F46-966F-E0750E3C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5D9B0B-6228-49DC-9091-523723DF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CDB8-5871-46AD-9708-BAC50F97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45741-D1DA-490B-AF77-203A9E21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578A9E-BF4E-4BBB-BD89-4E8FB7CA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B4A597-D66F-480C-848D-A7B3DD2A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FC9991-3D70-4040-B57A-75BAC09C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B5BE18-E348-49AF-AAD3-11EB9368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E87422-FBE1-4F34-9826-99258065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7BEB8A-787F-4B3B-92A3-D2DA05AF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25E5-8177-4AA3-BA50-CBE15B39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5D25-BE20-436D-86D1-BFB3AA18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FE40-6251-44A4-A9E0-0948E953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E4510-6476-4F25-81AB-C7E290C2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E9B3B-AA9D-4087-902E-AAE73685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30668-E1B5-4813-ADEA-1129D77E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22AD-5D9F-421C-90B2-C3C1EDB4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41F1-F6DE-40A7-81B5-DCAF17C9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0F4-F44E-4F52-A7A6-638976A8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81602-1564-4CAF-BD9D-78E54324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70000-00DE-454F-8B92-3B1B6B9D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49801-C0F1-48CB-BC7D-CB39F9AB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5DC24-6BC7-4A59-A0D8-A46C7396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BA705-A041-4C7E-9D98-253733DD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0376E-47BC-4BC0-9580-91D85539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8699E-3EB8-4F72-8E72-E9A2FBF8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B0898-4693-40D0-9740-6B0496D9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C092D-09F3-4AF8-98E2-1074524C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1666-7E16-456A-9105-3F15C29F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1EC-7317-4AA6-806D-980BA9CC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F1984-5FF3-4EEA-9130-8BBE219C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B20C-BF82-4316-B301-44A2726E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06EF5-7C4D-4E28-9BE8-9BB15447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C7EF9-5CC3-4099-AAB0-433085EF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793E8-0D94-4546-AC1B-114FD24D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3BE02-4628-473D-B411-ED68CF52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BE556-4EC6-41DE-9B94-D8CA85ED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5CB4A-FC35-42FD-9A43-32CF6126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0ED0B-51CD-495E-BA0B-65C49605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A749E-D071-47F3-961B-C0C30EE7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BC6-A728-4271-A253-1CF0778A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088FB-E702-464B-85ED-1FDFB238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59D19-9F49-4402-8796-1BE19335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564D6-8FFE-4EEB-9379-5D4F5DB7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0B071-6B64-4431-80A6-83BAB09D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46F93-0E73-45E2-A544-BB88B679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35136-F33B-4C28-B89E-4320C526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061C6-FFA6-4E45-9731-9BC99985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F9765-354A-43BB-88B0-BFAF1353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698CD-2EE8-4099-841C-E401D9EE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43217-2278-4428-A577-8A48CFB0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4315-694A-4D2F-AFC3-B2805534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9DB6B-9847-4A7D-82E7-A41CC395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AF94E-3E36-4BD7-8809-6E209FCA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29526-7F25-4602-9B67-2BD4ED55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90B4D-460E-474E-A061-C578B7CB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9F18F-395C-48AC-A450-F1E60CB7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39F21-97ED-4F61-9E24-1789E740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EC557-1BC0-4272-A683-3BADB54A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FC1A9-DEDA-40A3-9312-C111A403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A2655-7F66-4B0C-B9E1-4A5932D9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F78E6-C057-404B-A8B9-207B4297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995-566D-40CF-8792-662663E4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76494-B8ED-4E0B-B4A4-65F254BB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B8C26-03F8-4DD7-9547-9366BFB4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B95D9-FC4E-4465-8BDA-5C77EAEA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BE65E-57C9-49A9-9F3E-49FAEDA1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21749-AE46-4DBE-88B8-D35E8EB8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7209B-A605-4BFB-85E0-35C79EE7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3C867-5933-49ED-B179-C2FC4232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545D6-88B0-45D5-9489-CB23E3A3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44F3A-EDA2-4B09-AC76-327B4034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B24AE-4973-4653-8154-6269BCC8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7A9-FBA8-4BAB-A7F3-4EBE676E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E12DA-8B68-4C6E-9BDA-50D54B3F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2788F-922F-4135-B389-A45321C2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214EE-B108-4834-931F-4A081811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05B00-6182-4712-9F69-6B0308F7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5D2A2-C717-48DC-B1E1-10B39C74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CA501-A949-4C9C-96F3-AB21502D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BB6BB-7FF8-4A36-8F6A-F71DFAAC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B9F77-B213-4333-A186-5DE8F3A5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FE92D-FBDD-43C7-BEBB-D86E0F46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766D1-4EBB-4E84-98C2-41954729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99F-775A-4375-8764-D7A5AADA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3406D-2716-4B2C-9A64-68F11F5E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2BE25-CD00-4ACF-8941-6171FB04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155B3-8B31-4D41-AA93-5DD740B2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F3CB5-F25A-4433-B7EC-361DAD3F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28B1E-C758-4DDC-9915-774D57B3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150A5-DDD1-47A7-B870-AC94F04B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71A5E-1F48-45C0-A5B3-00A68107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046D6-F373-4FA8-A3DD-5D5C8D63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017AA-AF9F-4EB4-9A4E-05DBC5A1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4B6D1-846F-4369-B6D6-05198CE0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5696D-7265-4B21-B8E3-2426C15EC86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08CD6-119E-412D-B034-F956BC8B70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393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96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Rectangle 11"/>
            <p:cNvSpPr/>
            <p:nvPr/>
          </p:nvSpPr>
          <p:spPr>
            <a:xfrm>
              <a:off x="3614760" y="6411960"/>
              <a:ext cx="5527800" cy="540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42980-91EC-4B38-AC68-9500333FB8E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E33A1-B2F9-45CF-B6F7-656156448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440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ounded Rectangle 8"/>
            <p:cNvSpPr/>
            <p:nvPr/>
          </p:nvSpPr>
          <p:spPr>
            <a:xfrm>
              <a:off x="219240" y="219240"/>
              <a:ext cx="870588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7BCA5-6F4C-46E7-824A-13691F18311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B1766-2EDE-4AAC-86BF-791D392723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485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488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1"/>
            <p:cNvSpPr/>
            <p:nvPr/>
          </p:nvSpPr>
          <p:spPr>
            <a:xfrm>
              <a:off x="3614760" y="6411960"/>
              <a:ext cx="5527800" cy="540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15EE2-CB7F-4FBB-AA8D-5C3FFA3F097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04D2C-3EAC-4046-A34A-EB6DF7F081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532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Rounded Rectangle 8"/>
            <p:cNvSpPr/>
            <p:nvPr/>
          </p:nvSpPr>
          <p:spPr>
            <a:xfrm>
              <a:off x="219240" y="219240"/>
              <a:ext cx="870588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9FB43-3C3F-46E8-9F17-59265DBDBB8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E2AEA-E457-49F6-A8E1-D89426492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577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580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11"/>
            <p:cNvSpPr/>
            <p:nvPr/>
          </p:nvSpPr>
          <p:spPr>
            <a:xfrm>
              <a:off x="3614760" y="6411960"/>
              <a:ext cx="5527800" cy="540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0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D3C1C-579B-4710-A036-B39E768C0BA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1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2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9FBFE-F7AE-4A40-901E-86BB844E00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624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ounded Rectangle 9"/>
            <p:cNvSpPr/>
            <p:nvPr/>
          </p:nvSpPr>
          <p:spPr>
            <a:xfrm>
              <a:off x="219240" y="219240"/>
              <a:ext cx="870588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3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8C2D9-0343-4B6E-A1E8-EC83B79D0A2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4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5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D1EFB-928F-4CD8-962B-EAB2623DB9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669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1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672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Rectangle 11"/>
            <p:cNvSpPr/>
            <p:nvPr/>
          </p:nvSpPr>
          <p:spPr>
            <a:xfrm>
              <a:off x="3614760" y="6411960"/>
              <a:ext cx="5527800" cy="540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6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3E2B9-114A-4B65-A3DA-C981992F31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47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48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0EB8F-0DA0-43C5-BB1D-47350502E3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Date Placeholder 4"/>
          <p:cNvSpPr/>
          <p:nvPr/>
        </p:nvSpPr>
        <p:spPr>
          <a:xfrm>
            <a:off x="95580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42FEC-D589-4DA6-BEEC-CD93C4D1A0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6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54E8F-8971-4E22-A70E-7859219D3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Group 8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718" name="Picture 9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Rounded Rectangle 9"/>
            <p:cNvSpPr/>
            <p:nvPr/>
          </p:nvSpPr>
          <p:spPr>
            <a:xfrm>
              <a:off x="219240" y="219240"/>
              <a:ext cx="870588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TextBox 11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2F728-7C38-465E-AF7D-C51D29884CC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B430D-399B-49CB-8040-E3AE2C772C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763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5" name="Group 9"/>
          <p:cNvGrpSpPr/>
          <p:nvPr/>
        </p:nvGrpSpPr>
        <p:grpSpPr>
          <a:xfrm>
            <a:off x="3614760" y="6411960"/>
            <a:ext cx="5527800" cy="459000"/>
            <a:chOff x="3614760" y="6411960"/>
            <a:chExt cx="5527800" cy="459000"/>
          </a:xfrm>
        </p:grpSpPr>
        <p:pic>
          <p:nvPicPr>
            <p:cNvPr id="766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Rectangle 11"/>
            <p:cNvSpPr/>
            <p:nvPr/>
          </p:nvSpPr>
          <p:spPr>
            <a:xfrm>
              <a:off x="3614760" y="6411960"/>
              <a:ext cx="5527800" cy="540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TextBox 12"/>
            <p:cNvSpPr/>
            <p:nvPr/>
          </p:nvSpPr>
          <p:spPr>
            <a:xfrm>
              <a:off x="4205520" y="6472440"/>
              <a:ext cx="490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7CD6D-50DD-4F41-B527-7EF97176085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9B8FE-05B1-42D5-A9D9-A1A22494CA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12EF1-D7C3-432E-A9ED-6F6FDAEB140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7318A-4C22-44CD-94B1-9D7C2F5C95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51E61-FA3D-4393-97F1-B86FA9DD160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F2827-3C66-4D6E-AD7F-C858A152F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8639280" y="6486480"/>
            <a:ext cx="390600" cy="371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0491C-D073-400F-90F9-6694419369C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EA9EC-E81E-4BA2-AFE1-F151345666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66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83070-5F14-466E-9E78-FED0C543771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1DB70-C50C-4E2F-942A-7658E7BFE6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6"/>
          <p:cNvGrpSpPr/>
          <p:nvPr/>
        </p:nvGrpSpPr>
        <p:grpSpPr>
          <a:xfrm>
            <a:off x="3614760" y="6411960"/>
            <a:ext cx="5527800" cy="459000"/>
            <a:chOff x="3614760" y="6411960"/>
            <a:chExt cx="5527800" cy="459000"/>
          </a:xfrm>
        </p:grpSpPr>
        <p:pic>
          <p:nvPicPr>
            <p:cNvPr id="211" name="Picture 7" descr=""/>
            <p:cNvPicPr/>
            <p:nvPr/>
          </p:nvPicPr>
          <p:blipFill>
            <a:blip r:embed="rId2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8"/>
            <p:cNvSpPr/>
            <p:nvPr/>
          </p:nvSpPr>
          <p:spPr>
            <a:xfrm>
              <a:off x="3614760" y="6411960"/>
              <a:ext cx="5527800" cy="540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9"/>
            <p:cNvSpPr/>
            <p:nvPr/>
          </p:nvSpPr>
          <p:spPr>
            <a:xfrm>
              <a:off x="4205520" y="6472440"/>
              <a:ext cx="490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4841D-045A-40A1-9202-13B08AF4098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E9B94-DC6E-419F-9A84-FEC9B9ED16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256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ounded Rectangle 9"/>
            <p:cNvSpPr/>
            <p:nvPr/>
          </p:nvSpPr>
          <p:spPr>
            <a:xfrm>
              <a:off x="219240" y="219240"/>
              <a:ext cx="870588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C70E7-0A05-46DC-977E-1C6E4120055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EBF8F-AE11-46C8-AF1F-4664A1E68B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301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04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11"/>
            <p:cNvSpPr/>
            <p:nvPr/>
          </p:nvSpPr>
          <p:spPr>
            <a:xfrm>
              <a:off x="3614760" y="6411960"/>
              <a:ext cx="5527800" cy="540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AA414-3F9D-43BF-8F21-B7C1EE1D0D8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B19B7-4619-4F71-BDBC-6A3CB90B7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348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ounded Rectangle 8"/>
            <p:cNvSpPr/>
            <p:nvPr/>
          </p:nvSpPr>
          <p:spPr>
            <a:xfrm>
              <a:off x="219240" y="219240"/>
              <a:ext cx="870588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43F55-E52A-4B83-B3BB-5B141825204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A82FE-93CA-434C-B01D-4DC3D61E24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3880" y="993600"/>
            <a:ext cx="7886880" cy="20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alibri"/>
              </a:rPr>
              <a:t>Training Module CPG T1DM – </a:t>
            </a:r>
            <a:br>
              <a:rPr sz="4400"/>
            </a:br>
            <a:r>
              <a:rPr b="1" lang="en-US" sz="4400" spc="-1" strike="noStrike">
                <a:solidFill>
                  <a:srgbClr val="3333ff"/>
                </a:solidFill>
                <a:latin typeface="Calibri"/>
              </a:rPr>
              <a:t>Case Discussion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854440" y="3473280"/>
            <a:ext cx="565632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A/P Dr. Muhammad Yazid Jalalud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Senior Lecturer &amp; Consultant Paediatric Endocrinologist, Universiti Malaya, Kuala Lump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Dr. Suhaimi Huss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Senior Lecturer &amp; Consultant Paediatric Endocrinologist, Universiti Sains Malaysia, Kelant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57080" y="2992320"/>
            <a:ext cx="2071800" cy="3195720"/>
          </a:xfrm>
          <a:prstGeom prst="rect">
            <a:avLst/>
          </a:prstGeom>
          <a:ln w="0">
            <a:noFill/>
          </a:ln>
        </p:spPr>
      </p:pic>
      <p:sp>
        <p:nvSpPr>
          <p:cNvPr id="813" name="Slide Number Placeholder 4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E1DA4-7EB1-4F58-ABAF-D48017332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412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628200" y="1699920"/>
            <a:ext cx="8008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mergency assessment &amp; manag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irways &amp; breath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make sure airway is patent &amp; patient is breathing adequat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ircul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rapid bolus 10 ml/kg of 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nscious leve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no intubation if GCS is &gt;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luid manage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subsequent rehydration &amp; maintenance fluid should be calculated,                                &amp; infused over 48 ho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lectrolyt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based on VBG/lab results, add KCl to fluid 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sul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DO NOT give bolus insu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92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ULIN infusion to start 1 - 2 hours af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92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ing fluids, start insulin infusion 0.1 unit/kg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97ECA-DBC7-43B1-BB8F-92D696EBC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14280"/>
            <a:ext cx="788688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28560" y="996840"/>
            <a:ext cx="788688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mergency assessment &amp; manag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5" name="Picture 3" descr=""/>
          <p:cNvPicPr/>
          <p:nvPr/>
        </p:nvPicPr>
        <p:blipFill>
          <a:blip r:embed="rId1"/>
          <a:stretch/>
        </p:blipFill>
        <p:spPr>
          <a:xfrm>
            <a:off x="1015920" y="1438200"/>
            <a:ext cx="7102440" cy="4915080"/>
          </a:xfrm>
          <a:prstGeom prst="rect">
            <a:avLst/>
          </a:prstGeom>
          <a:ln w="0">
            <a:noFill/>
          </a:ln>
        </p:spPr>
      </p:pic>
      <p:sp>
        <p:nvSpPr>
          <p:cNvPr id="84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1FE24-31BA-4813-A602-3629D1515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696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628560" y="1998360"/>
            <a:ext cx="788688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ere should you manage this pati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F747E-F4FD-4854-BD0B-F38B86A66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727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1" name="Picture 3" descr=""/>
          <p:cNvPicPr/>
          <p:nvPr/>
        </p:nvPicPr>
        <p:blipFill>
          <a:blip r:embed="rId1"/>
          <a:stretch/>
        </p:blipFill>
        <p:spPr>
          <a:xfrm>
            <a:off x="563400" y="2471760"/>
            <a:ext cx="8017200" cy="1914480"/>
          </a:xfrm>
          <a:prstGeom prst="rect">
            <a:avLst/>
          </a:prstGeom>
          <a:ln w="0">
            <a:noFill/>
          </a:ln>
        </p:spPr>
      </p:pic>
      <p:sp>
        <p:nvSpPr>
          <p:cNvPr id="852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79BF1-469E-400E-AFB6-490D80010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696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628560" y="1982520"/>
            <a:ext cx="7886880" cy="37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w would you administer the fluid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60D6E-5E75-408C-80DD-597B9D63A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28560" y="412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628560" y="1601280"/>
            <a:ext cx="788688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id management: rapid bolus 10 ml/kg of NS followed by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658800" y="2641680"/>
            <a:ext cx="7832880" cy="3327480"/>
          </a:xfrm>
          <a:prstGeom prst="rect">
            <a:avLst/>
          </a:prstGeom>
          <a:ln w="0">
            <a:noFill/>
          </a:ln>
        </p:spPr>
      </p:pic>
      <p:sp>
        <p:nvSpPr>
          <p:cNvPr id="85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9F526-8DD9-4B4F-B9D9-5268783B4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275760"/>
            <a:ext cx="788688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1" name="Picture 2" descr=""/>
          <p:cNvPicPr/>
          <p:nvPr/>
        </p:nvPicPr>
        <p:blipFill>
          <a:blip r:embed="rId1"/>
          <a:stretch/>
        </p:blipFill>
        <p:spPr>
          <a:xfrm>
            <a:off x="1211400" y="1022400"/>
            <a:ext cx="6681600" cy="5292720"/>
          </a:xfrm>
          <a:prstGeom prst="rect">
            <a:avLst/>
          </a:prstGeom>
          <a:ln w="0">
            <a:noFill/>
          </a:ln>
        </p:spPr>
      </p:pic>
      <p:cxnSp>
        <p:nvCxnSpPr>
          <p:cNvPr id="862" name="Straight Arrow Connector 4"/>
          <p:cNvCxnSpPr/>
          <p:nvPr/>
        </p:nvCxnSpPr>
        <p:spPr>
          <a:xfrm>
            <a:off x="2439720" y="3048120"/>
            <a:ext cx="1080" cy="8085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3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8ED06-0607-4B16-BACF-5970C8584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28560" y="314280"/>
            <a:ext cx="788688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5" name="Picture 2" descr=""/>
          <p:cNvPicPr/>
          <p:nvPr/>
        </p:nvPicPr>
        <p:blipFill>
          <a:blip r:embed="rId1"/>
          <a:stretch/>
        </p:blipFill>
        <p:spPr>
          <a:xfrm>
            <a:off x="677880" y="1133640"/>
            <a:ext cx="7864560" cy="16351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"/>
          <p:cNvPicPr/>
          <p:nvPr/>
        </p:nvPicPr>
        <p:blipFill>
          <a:blip r:embed="rId2"/>
          <a:stretch/>
        </p:blipFill>
        <p:spPr>
          <a:xfrm>
            <a:off x="679320" y="2914560"/>
            <a:ext cx="7723440" cy="3267000"/>
          </a:xfrm>
          <a:prstGeom prst="rect">
            <a:avLst/>
          </a:prstGeom>
          <a:ln w="0">
            <a:noFill/>
          </a:ln>
        </p:spPr>
      </p:pic>
      <p:sp>
        <p:nvSpPr>
          <p:cNvPr id="867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BCD41-26C6-4A8F-8CDE-BD57ED715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696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628560" y="1998720"/>
            <a:ext cx="788688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y other important things to perform before starting insuli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7F760-DB82-4F49-A672-EBF231854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711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628560" y="1998360"/>
            <a:ext cx="7886880" cy="90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otassium replacement: based on ECG/VBG/lab res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843120" y="2997360"/>
            <a:ext cx="7430760" cy="1734840"/>
          </a:xfrm>
          <a:prstGeom prst="rect">
            <a:avLst/>
          </a:prstGeom>
          <a:ln w="0">
            <a:noFill/>
          </a:ln>
        </p:spPr>
      </p:pic>
      <p:sp>
        <p:nvSpPr>
          <p:cNvPr id="87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62F24-F634-43C6-BE1B-7B32F7763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727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28560" y="2030040"/>
            <a:ext cx="788688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-year-old bo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iously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ed with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27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miting for 2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27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uria, polydipsia for 2 wee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1. What other symptoms would you look f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AA9E5-B7B6-43FF-B03D-EAE798AB5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14280"/>
            <a:ext cx="788688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628560" y="996840"/>
            <a:ext cx="788688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Potassium repla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7" name="Picture 2" descr=""/>
          <p:cNvPicPr/>
          <p:nvPr/>
        </p:nvPicPr>
        <p:blipFill>
          <a:blip r:embed="rId1"/>
          <a:stretch/>
        </p:blipFill>
        <p:spPr>
          <a:xfrm>
            <a:off x="1420920" y="1536840"/>
            <a:ext cx="6337080" cy="4749840"/>
          </a:xfrm>
          <a:prstGeom prst="rect">
            <a:avLst/>
          </a:prstGeom>
          <a:ln w="0">
            <a:noFill/>
          </a:ln>
        </p:spPr>
      </p:pic>
      <p:sp>
        <p:nvSpPr>
          <p:cNvPr id="87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18D66-1ECA-453D-A062-F898E39CD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727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28560" y="2030040"/>
            <a:ext cx="788688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ould you start the insulin now?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w would you do tha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3259B-A454-4B1A-A911-53DCA9734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01320"/>
            <a:ext cx="788688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28560" y="1096560"/>
            <a:ext cx="788688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Insulin: DO NOT give bolus insu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INSULIN infusion - start 1 - 2 hrs af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starting fluids, start insulin infusion a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0.05 - 0.1 unit/kg/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Picture 2" descr=""/>
          <p:cNvPicPr/>
          <p:nvPr/>
        </p:nvPicPr>
        <p:blipFill>
          <a:blip r:embed="rId1"/>
          <a:stretch/>
        </p:blipFill>
        <p:spPr>
          <a:xfrm>
            <a:off x="898560" y="3036960"/>
            <a:ext cx="7224840" cy="3203640"/>
          </a:xfrm>
          <a:prstGeom prst="rect">
            <a:avLst/>
          </a:prstGeom>
          <a:ln w="0">
            <a:noFill/>
          </a:ln>
        </p:spPr>
      </p:pic>
      <p:sp>
        <p:nvSpPr>
          <p:cNvPr id="885" name="TextBox 3"/>
          <p:cNvSpPr/>
          <p:nvPr/>
        </p:nvSpPr>
        <p:spPr>
          <a:xfrm>
            <a:off x="2397240" y="5956200"/>
            <a:ext cx="572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lide Number Placeholder 4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A5AF4-C0D5-4B5A-A3A8-55B9A6BE5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711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628560" y="2014560"/>
            <a:ext cx="788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advise would you give to your junior doctors/nurses with regards to monitoring of this pati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w do you adjust insulin in relation to B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254FA-68E5-4BB0-A707-45585AF83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28560" y="313920"/>
            <a:ext cx="78868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907920" y="1109520"/>
            <a:ext cx="7248600" cy="5153040"/>
          </a:xfrm>
          <a:prstGeom prst="rect">
            <a:avLst/>
          </a:prstGeom>
          <a:ln w="0">
            <a:noFill/>
          </a:ln>
        </p:spPr>
      </p:pic>
      <p:sp>
        <p:nvSpPr>
          <p:cNvPr id="892" name="TextBox 3"/>
          <p:cNvSpPr/>
          <p:nvPr/>
        </p:nvSpPr>
        <p:spPr>
          <a:xfrm>
            <a:off x="1260360" y="5227560"/>
            <a:ext cx="4657680" cy="9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7004F-024F-4AD1-BA37-26AD0F8D6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28560" y="412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628560" y="1717200"/>
            <a:ext cx="788688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BG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6" name="Picture 2" descr=""/>
          <p:cNvPicPr/>
          <p:nvPr/>
        </p:nvPicPr>
        <p:blipFill>
          <a:blip r:embed="rId1"/>
          <a:stretch/>
        </p:blipFill>
        <p:spPr>
          <a:xfrm>
            <a:off x="380880" y="2395440"/>
            <a:ext cx="8353440" cy="3184560"/>
          </a:xfrm>
          <a:prstGeom prst="rect">
            <a:avLst/>
          </a:prstGeom>
          <a:ln w="0">
            <a:noFill/>
          </a:ln>
        </p:spPr>
      </p:pic>
      <p:sp>
        <p:nvSpPr>
          <p:cNvPr id="89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C1395-6E23-4054-AEB5-6C6ACE3C1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28560" y="392040"/>
            <a:ext cx="788688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9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628560" y="1195560"/>
            <a:ext cx="788688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nitoring serum sod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0" name="Picture 2" descr=""/>
          <p:cNvPicPr/>
          <p:nvPr/>
        </p:nvPicPr>
        <p:blipFill>
          <a:blip r:embed="rId1"/>
          <a:stretch/>
        </p:blipFill>
        <p:spPr>
          <a:xfrm>
            <a:off x="708120" y="1841400"/>
            <a:ext cx="7726320" cy="4351320"/>
          </a:xfrm>
          <a:prstGeom prst="rect">
            <a:avLst/>
          </a:prstGeom>
          <a:ln w="0">
            <a:noFill/>
          </a:ln>
        </p:spPr>
      </p:pic>
      <p:sp>
        <p:nvSpPr>
          <p:cNvPr id="90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3EDCD-1991-4ED2-9032-A7C85B361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696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628560" y="1933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 was started on insulin infusion at 0.1 unit/kg/hour. His repeat VBG 2 hours after insulin initiation showed pH 6.9 &amp;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4.0 mmol/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 BP 115/65 &amp; PR 110 - 120 per min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um potassium from VBG was 4.8 mmol/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10. Would you give bicarbon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D76A5-388B-457C-BC75-51478A370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28560" y="711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06" name="Picture 3" descr=""/>
          <p:cNvPicPr/>
          <p:nvPr/>
        </p:nvPicPr>
        <p:blipFill>
          <a:blip r:embed="rId1"/>
          <a:stretch/>
        </p:blipFill>
        <p:spPr>
          <a:xfrm>
            <a:off x="434880" y="2817720"/>
            <a:ext cx="8274240" cy="1222560"/>
          </a:xfrm>
          <a:prstGeom prst="rect">
            <a:avLst/>
          </a:prstGeom>
          <a:ln w="0">
            <a:noFill/>
          </a:ln>
        </p:spPr>
      </p:pic>
      <p:sp>
        <p:nvSpPr>
          <p:cNvPr id="907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213D0-F70B-4193-9E5E-5A54A1B7F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439560"/>
            <a:ext cx="7886880" cy="7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628560" y="1447560"/>
            <a:ext cx="78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 ABG showed pH of 7.05 with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7 mmol/L. No bicarbonate was gi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about 6 hours of insulin infusion, you receive a call from the PICU nurse. Patient is getting more drowsy &amp; having severe heada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 GCS has dropped from 13/15 to 11/15 but he is still able to maintain his air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11.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most important pathology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you need to rule 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factors may have contribute to thi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95D05-3767-4379-BA92-6E9D396B2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28560" y="412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628560" y="1601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iabetes symptoms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yu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ydip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ctu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u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KA symptoms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hyd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dominal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om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pid breat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ow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2EECA-2DFB-4F94-ACBC-32A87CE71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25440"/>
            <a:ext cx="788688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2" name="Picture 2" descr=""/>
          <p:cNvPicPr/>
          <p:nvPr/>
        </p:nvPicPr>
        <p:blipFill>
          <a:blip r:embed="rId1"/>
          <a:stretch/>
        </p:blipFill>
        <p:spPr>
          <a:xfrm>
            <a:off x="998640" y="1025640"/>
            <a:ext cx="7170480" cy="528948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F686B-F569-4B97-86A0-3EBE404EE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28560" y="696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1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28560" y="1982880"/>
            <a:ext cx="78868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warning signs you would look f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37A12-20A0-47EC-B930-76A924671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17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8" name="Picture 2" descr=""/>
          <p:cNvPicPr/>
          <p:nvPr/>
        </p:nvPicPr>
        <p:blipFill>
          <a:blip r:embed="rId1"/>
          <a:stretch/>
        </p:blipFill>
        <p:spPr>
          <a:xfrm>
            <a:off x="700200" y="1571760"/>
            <a:ext cx="7805520" cy="446076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DAE2C-A803-495E-B0F9-1C7D1D5C7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727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628560" y="1998720"/>
            <a:ext cx="788688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refully examine the patient &amp; not convinced that he has developed cerebral oede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13. How do you objectively assess the pati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or cerebral oedem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87E00-3E70-47DE-AE9F-8DA7C8D53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28560" y="711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4" name="Picture 2" descr=""/>
          <p:cNvPicPr/>
          <p:nvPr/>
        </p:nvPicPr>
        <p:blipFill>
          <a:blip r:embed="rId1"/>
          <a:stretch/>
        </p:blipFill>
        <p:spPr>
          <a:xfrm>
            <a:off x="557280" y="2484360"/>
            <a:ext cx="8109000" cy="194004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60D57-B9D1-4487-9B7E-70578C839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13920"/>
            <a:ext cx="78868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7" name="Picture 2" descr=""/>
          <p:cNvPicPr/>
          <p:nvPr/>
        </p:nvPicPr>
        <p:blipFill>
          <a:blip r:embed="rId1"/>
          <a:stretch/>
        </p:blipFill>
        <p:spPr>
          <a:xfrm>
            <a:off x="830160" y="1123920"/>
            <a:ext cx="7473960" cy="5105520"/>
          </a:xfrm>
          <a:prstGeom prst="rect">
            <a:avLst/>
          </a:prstGeom>
          <a:ln w="0">
            <a:noFill/>
          </a:ln>
        </p:spPr>
      </p:pic>
      <p:sp>
        <p:nvSpPr>
          <p:cNvPr id="928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453DE-9B40-42C0-AA15-6F35F92F5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412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628560" y="1793520"/>
            <a:ext cx="78868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hydration fluids &amp; insulin infusion were given as instructed. Patient’s BG improved &amp; his serum ketone was 0.6 mmol/L about 30 hours after administration of insul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is hungry &amp; wanted to have his breakfa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14. How would you do transition to his insul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gi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D9AF1-379A-4677-9B82-E31918D38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6811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28560" y="1844640"/>
            <a:ext cx="788688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Insulin tran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4" name="Picture 2" descr=""/>
          <p:cNvPicPr/>
          <p:nvPr/>
        </p:nvPicPr>
        <p:blipFill>
          <a:blip r:embed="rId1"/>
          <a:stretch/>
        </p:blipFill>
        <p:spPr>
          <a:xfrm>
            <a:off x="620640" y="2514600"/>
            <a:ext cx="7866000" cy="27432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3" descr=""/>
          <p:cNvPicPr/>
          <p:nvPr/>
        </p:nvPicPr>
        <p:blipFill>
          <a:blip r:embed="rId2"/>
          <a:stretch/>
        </p:blipFill>
        <p:spPr>
          <a:xfrm>
            <a:off x="588960" y="5214960"/>
            <a:ext cx="7897680" cy="690480"/>
          </a:xfrm>
          <a:prstGeom prst="rect">
            <a:avLst/>
          </a:prstGeom>
          <a:ln w="0">
            <a:noFill/>
          </a:ln>
        </p:spPr>
      </p:pic>
      <p:sp>
        <p:nvSpPr>
          <p:cNvPr id="936" name="Slide Number Placeholder 5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F6C9A-A6EA-42A7-9B92-75891CAE9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711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4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628200" y="1998360"/>
            <a:ext cx="79218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Insulin requiremen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pre-pubertal growth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0.7 - 1 IU/kg/da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puberty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1.2 - 2 IU/kg/da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60BC4-708C-4466-820B-377DB9064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28560" y="696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628560" y="1967040"/>
            <a:ext cx="7886880" cy="41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10-year-old boy was recently diagnosed to have T1D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had 2 weeks history of polyuria, polydipsia, nocturia as well as vomiting &amp; abdominal pain 2 days prior to hospital ad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y was initially treated as DKA on admission &amp; presently he has recovered from D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15.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are the factors to consider in choos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right insulin regimen for this bo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8A337-B4D8-499B-A752-4B5AAEE050C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412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628560" y="1494000"/>
            <a:ext cx="788688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iagnosis of 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1"/>
          <a:stretch/>
        </p:blipFill>
        <p:spPr>
          <a:xfrm>
            <a:off x="439560" y="2085840"/>
            <a:ext cx="8232840" cy="3841920"/>
          </a:xfrm>
          <a:prstGeom prst="rect">
            <a:avLst/>
          </a:prstGeom>
          <a:ln w="0">
            <a:noFill/>
          </a:ln>
        </p:spPr>
      </p:pic>
      <p:sp>
        <p:nvSpPr>
          <p:cNvPr id="82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6CA3D-167D-4A8F-8D6E-985DAA7C1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727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4" name="Picture 3" descr=""/>
          <p:cNvPicPr/>
          <p:nvPr/>
        </p:nvPicPr>
        <p:blipFill>
          <a:blip r:embed="rId1"/>
          <a:stretch/>
        </p:blipFill>
        <p:spPr>
          <a:xfrm>
            <a:off x="466560" y="2014560"/>
            <a:ext cx="8223480" cy="2951280"/>
          </a:xfrm>
          <a:prstGeom prst="rect">
            <a:avLst/>
          </a:prstGeom>
          <a:ln w="0">
            <a:noFill/>
          </a:ln>
        </p:spPr>
      </p:pic>
      <p:sp>
        <p:nvSpPr>
          <p:cNvPr id="945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807C5-91F6-4C9D-8499-840F148CDCC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696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istory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628560" y="1949040"/>
            <a:ext cx="788688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y is a standard 4 student &amp; the youngest of 3 sibling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her is a housewife. Father is a teacher in the same school that he atte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oy used to have 3 main meals/day: 2 slices of bread with a boiled egg &amp; a glass of milk for breakf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ing recess at school: a few pieces of biscuits or a tuna sandwich with plain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unch &amp; dinner (prepared by his mother): plate of rice with grilled chicken &amp; a bowl of carrot s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977F5-996E-40DD-9360-7A9FE69749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28560" y="711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istory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628560" y="1950840"/>
            <a:ext cx="78868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y plays football about 2 times a week &amp; rides his bicycle almost every eve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16.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ich insulin regimen should be started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0E0CE-F206-4866-BC3F-BD789727710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28560" y="4446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628560" y="1727280"/>
            <a:ext cx="788688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sulin regimen: intensive regimen with prandial insulin for meal &amp; basal insulin at n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main meals: 3 prandial insulin e.g. human insulin - short-acting insulin (actrapid or humulin 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analog short-acting insulin e.g. aspart (if he is willing to give extra jab for each snack in between main me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al insulin can be either human insulin or analog bas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mother is a full-time housewife, she should be able to take care of the boy in terms of BG/diet monitoring &amp; insulin injections at ho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father is teaching in the same school, he can supervise &amp; serve insulin injection while the boy is at scho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0F4C2-8F60-4A7E-A28F-959D587B7D3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711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6" name="Picture 2" descr=""/>
          <p:cNvPicPr/>
          <p:nvPr/>
        </p:nvPicPr>
        <p:blipFill>
          <a:blip r:embed="rId1"/>
          <a:stretch/>
        </p:blipFill>
        <p:spPr>
          <a:xfrm>
            <a:off x="353880" y="2063880"/>
            <a:ext cx="8426520" cy="2854080"/>
          </a:xfrm>
          <a:prstGeom prst="rect">
            <a:avLst/>
          </a:prstGeom>
          <a:ln w="0">
            <a:noFill/>
          </a:ln>
        </p:spPr>
      </p:pic>
      <p:sp>
        <p:nvSpPr>
          <p:cNvPr id="957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4D5AF-3AC8-42E1-8547-E5AD84B0700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28560" y="587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micking endogenous insulin secretion to achieve best possible             glycaemic contro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9" name="Picture 25" descr=""/>
          <p:cNvPicPr/>
          <p:nvPr/>
        </p:nvPicPr>
        <p:blipFill>
          <a:blip r:embed="rId1"/>
          <a:stretch/>
        </p:blipFill>
        <p:spPr>
          <a:xfrm>
            <a:off x="754200" y="1932120"/>
            <a:ext cx="7697520" cy="3989160"/>
          </a:xfrm>
          <a:prstGeom prst="rect">
            <a:avLst/>
          </a:prstGeom>
          <a:ln w="0">
            <a:noFill/>
          </a:ln>
        </p:spPr>
      </p:pic>
      <p:sp>
        <p:nvSpPr>
          <p:cNvPr id="960" name="Rectangle 8"/>
          <p:cNvSpPr/>
          <p:nvPr/>
        </p:nvSpPr>
        <p:spPr>
          <a:xfrm>
            <a:off x="528480" y="596268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  <a:ea typeface="Arial"/>
              </a:rPr>
              <a:t>Owens DR, et al. Lancet. 2001 Sep 1;358(9283):739-46. Review. Erratum in: Lancet 2001 Oct 20;358(9290):13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CF85E-6C84-45B1-A299-D173A2A97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696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1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628560" y="1998720"/>
            <a:ext cx="788688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recommended insulin dosages for this boy if the boy’s weight is 32.0 k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3A4A4-E464-4A95-9883-79CE1304F0B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410760"/>
            <a:ext cx="788688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628560" y="1182240"/>
            <a:ext cx="788688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 gene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2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otal insulin (prepubertal)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7 - 1 IU/kg/day or 22.0 -  32.0 IU/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2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50% basa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about 10 - 15 IU/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2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50% prandial/bolu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10 - 15 IU; for 3 main meals about 2 - 5 IU each but these need to b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ITRATED ACCORDING TO PATTERN OF BG &amp; CHOICE OF FOO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07F10-07E1-42F1-B82B-55BF126D0A6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8" name="Picture 2" descr=""/>
          <p:cNvPicPr/>
          <p:nvPr/>
        </p:nvPicPr>
        <p:blipFill>
          <a:blip r:embed="rId1"/>
          <a:stretch/>
        </p:blipFill>
        <p:spPr>
          <a:xfrm>
            <a:off x="504720" y="3994200"/>
            <a:ext cx="815040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9600" spc="-1" strike="noStrike">
                <a:solidFill>
                  <a:srgbClr val="3333ff"/>
                </a:solidFill>
                <a:latin typeface="Calibri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Slide Number Placeholder 1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53F80-E6B8-48F5-A239-45C3C72F2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439560"/>
            <a:ext cx="7886880" cy="10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Physical examina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628560" y="1617480"/>
            <a:ext cx="788688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examina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ws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CS 13/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hyd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 150 - 160/min, good pulse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P 117/68 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R 35/m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MY" sz="3000" spc="-1" strike="noStrike">
                <a:solidFill>
                  <a:srgbClr val="ff0000"/>
                </a:solidFill>
                <a:latin typeface="Calibri"/>
              </a:rPr>
              <a:t>Q2. What bedside test(s) would you perform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0777C-DCA0-456D-94E8-80EBFE582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727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28560" y="2030400"/>
            <a:ext cx="788688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eight assess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edside te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apillary blood glucose (CB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B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erum ket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rine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84C51-0D4E-46FB-9944-074A3E279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28560" y="506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Bedside test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628560" y="17935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ght: 22 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dside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BG: ‘HI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BG: pH 7.011,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4.0 , BE -23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um ketone: 4.5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ine test: glucose (4+), ketone 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3. What is the diagnos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CA6D7-1A63-47D1-BD08-BF049769C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28560" y="1542600"/>
            <a:ext cx="788688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iagnosis - Type 1 DM with severe 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Picture 2" descr=""/>
          <p:cNvPicPr/>
          <p:nvPr/>
        </p:nvPicPr>
        <p:blipFill>
          <a:blip r:embed="rId1"/>
          <a:stretch/>
        </p:blipFill>
        <p:spPr>
          <a:xfrm>
            <a:off x="465120" y="2219400"/>
            <a:ext cx="8232840" cy="3771720"/>
          </a:xfrm>
          <a:prstGeom prst="rect">
            <a:avLst/>
          </a:prstGeom>
          <a:ln w="0">
            <a:noFill/>
          </a:ln>
        </p:spPr>
      </p:pic>
      <p:sp>
        <p:nvSpPr>
          <p:cNvPr id="83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C573C-0A6E-4240-A492-D4F82C071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28560" y="711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28560" y="2014200"/>
            <a:ext cx="788688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would you do 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EC7E6-2112-4C5B-A1AD-48FDD52E5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5T04:18:09Z</dcterms:created>
  <dc:creator>Suriawati A.A.</dc:creator>
  <dc:description/>
  <dc:language>en-US</dc:language>
  <cp:lastModifiedBy>DrAmin</cp:lastModifiedBy>
  <dcterms:modified xsi:type="dcterms:W3CDTF">2017-01-03T01:56:29Z</dcterms:modified>
  <cp:revision>141</cp:revision>
  <dc:subject/>
  <dc:title>PowerPoint Presentation</dc:title>
</cp:coreProperties>
</file>